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2F70-CC59-42D3-871B-92791C08F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959C-AB59-43B8-9F1A-9ED728414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BCD6-A08E-4A3E-80A1-F280B61D0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95A3-DF86-4FDF-8206-D1E914311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5C7C-A8CF-4BFB-B962-E98908751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0450-F013-43C6-8C28-EA26D7D93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0A9A-0B65-48BB-8A7C-6C3AF71AB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EAC8-A7C0-4392-9566-B4411A65B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E889-8606-4E7A-ABEC-EF5DC6856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13E4-4EB2-411C-B0EF-C104D184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5BD8-4184-4649-A06E-CBF659D8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55DE-B13F-4B94-BBA3-D622B85A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EA4DF-07E3-443D-BAEA-7BC38771F1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nvironmental efforts off the Toyo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64720" y="1844640"/>
            <a:ext cx="86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2 emission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inforcement of environmental management by business part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imination of substances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operation with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(1)CO2 emissions managemen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reate medium- to long-term scenarios and start management of CO2 emissions volumes on a global scale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(2)Reinforcement of environmental management by business partner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Reinforce environmental management by business partners on a global scale (consolidated subsidiaries, suppliers, dealers, and overseas distributors)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(3)Elimination of substances of concer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liminate substances of concern (lead, mercury, cadmium, and hexavalent chromium) on a global scale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(4)Cooperation with society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ontribute to the development of a recyclingbased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次「トヨタ環境取組プラン」は、トヨタの成長と社会との共生を両立させ、持続可能な社会構築に寄与することを目的にしています。この目的を達成するために、次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点をポイントにプランを策定しました。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CO2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マネジメン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グローバルに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O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把握し低減するための中長期シナリオ作りに着手し推進する。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）ビジネスパートナーの環境マネジメント強化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連結会社、サプライヤー、販売店、海外代理店など、ビジネスパートナーの環境マネジメントをグローバルに強化・支援していく。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）環境負荷物質の削減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環境負荷物質（鉛、水銀、カドミウム、六価クロム）のグローバルな全廃を進める。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）社会との連携強化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循環型社会の構築に寄与する。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すでにトヨタでは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年度より全世界の連結対象会社等約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60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社と地球環境憲章を共有し、対象会社が各社ごとに取り組みプランを策定・推進する連結環境マネジメントを推進しています。各社は今回の第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次「トヨタ環境取組プラン」をもとに、各々次期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カ年環境取組プランを策定・推進し、連結環境マネジメントをさらに加速します。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03:29:31Z</dcterms:created>
  <dc:creator>Hiyoshi ITC</dc:creator>
  <dc:description/>
  <dc:language>en-US</dc:language>
  <cp:lastModifiedBy>Hiyoshi ITC</cp:lastModifiedBy>
  <dcterms:modified xsi:type="dcterms:W3CDTF">2008-12-15T03:36:50Z</dcterms:modified>
  <cp:revision>3</cp:revision>
  <dc:subject/>
  <dc:title>Environmental efforts off the Toyota</dc:title>
</cp:coreProperties>
</file>